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14D-9E75-401D-9AA2-C515725A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1C6-E6DA-4608-90A4-31A21C80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35E-1887-4965-A9F7-462556A7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66B-270E-4E6E-B659-45EAD16D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1E65-AC14-41FF-B261-3D2D64FA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0C6A-26F3-4D88-B75B-82519F31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38EB-4B82-4B9C-89D5-1D856448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01C3-79AD-4A06-A73B-F26C9143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969C-6D84-4236-AEEB-047D3709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803A-B512-403C-B3BB-7EF0F31D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17D4-67F5-4C44-B9DA-5C60747D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0EA-37BC-4C72-BCB6-9A64D2C5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218E-DE3A-4497-88F3-E7DB88B9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3AAC-8681-4A89-8BB8-D57E01D6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D894-10EB-43BE-B119-FA295D11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7480-7626-468C-BEE7-2235FCB7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4997-5740-4FBC-8A7D-08BD07EC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075-0A5A-47ED-9BC5-9BC9C86D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9B7-0403-4A6D-B8F7-D7A9A402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31E-43F6-4CE8-963C-88EB919F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90F-CE65-4161-87AF-50A35EF9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1ED-988A-43D5-8166-01FCED16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01F-9B7E-413C-A0FF-ECF27649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D3A-2B97-4362-A32C-4A253213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8FCC-3358-40AB-9433-A53C52943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995A-01BE-4BD6-B234-B364790F1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Ballad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~Sir Patrick Spens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~Bonnie George Campbell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~Bonny Barbara Allan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~Get Up and Bar the Door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Definitions and Important Info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all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lively storytelling form of poetry, and the story typically is told in a particular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lla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rt quickly, without much introduction or nar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rrative moves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he poet tells the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adside ballads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tradition of sensationalist journalism written in ballad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basic ballad stanza structure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ng 4-beat and 3-beat lines, with the second line rhyming with the fou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rain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repeated word, group of words, or group of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remental repetition (also variation)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hrase or sentence repeated with a new element eac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rony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rast between expectation and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train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r line stan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llad stanza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ight syllables in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nes; six syllables in the shorter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er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ic rhythmic structure of a 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mbic 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ress in each line falls on every other sy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1430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its most familiar version, the ballad stanza is four lines of alternating four-beat (tetrameter) and three-beat (trimeter) verse, with the second line rhyming with the four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st SIT right BACK and you’ll HEAR a TA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ALE of a FATEful TR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STARted FROM this TROpic 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-BOARD this TIny 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other exampl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dined on mince, and slices of quin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they ate with a runcible spo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hand in hand, on the edge of the sa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danced by the light of the moo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~”The Owl and the Pussy-Cat” by Edward Le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“Jabberwocky,” Lewis Carroll writes stanzas of 4-beat lines with alternating rhymes, so that line 1 rhymes with line 3, and line 2 with line 4,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as brillig, and the slithy t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gyre and gimble in the wa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imsy were the borogov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mome raths outgra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ware the Jabberwock, my s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jaws that bite, the claws that catch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ware the Jubjub bird, and sh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rumious Bandersnatch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win Arlington Robinson uses the same ballad stanza as Keats in “Miniver Cheevy”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ver loved the days of 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swords were bright and steeds were prancing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vision of a warrior b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uld SET him DANc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ver sighed for what was no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reamed, and rested from his labor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dreamed of Thebes and Camelo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PRIam’s NEIGHb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gar Allan Poe adds an extra pair of lines to the ballad stanzas of “Annabel Lee,” mostly continuing the rhythmic alternation of 4- and 3-beat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was many and many a year ag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kingdom by the se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 maiden there lived whom you may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e name of Annabel Le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is maiden she lived with no other 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n to love and be loved by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02:45Z</dcterms:created>
  <dc:creator>lcipriano</dc:creator>
  <dc:description/>
  <dc:language>en-US</dc:language>
  <cp:lastModifiedBy>lcipriano</cp:lastModifiedBy>
  <dcterms:modified xsi:type="dcterms:W3CDTF">2009-11-09T14:59:23Z</dcterms:modified>
  <cp:revision>3</cp:revision>
  <dc:subject/>
  <dc:title>Scottish Ballads</dc:title>
</cp:coreProperties>
</file>